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6.gif" ContentType="image/gi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719D-06D2-4B2D-9202-A4620C8E4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CA57-44ED-4549-9E6E-15445DF6E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7942-9F53-4F2D-92C2-0235B7751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01C5-3E5D-42A0-A8BC-962E2A756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232A-BB3A-44CF-968A-10FBCFAE6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E9E4-721D-42A0-B686-11F725508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3E6F-4920-4C09-83B5-E784B69B5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5C49-7778-43FA-9912-7ADF183DE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2699-9468-4EEB-AC8C-A80705CC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FC01-B252-4EAF-9955-81DCBB41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71E9-60FB-455C-BB43-4CEFE319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4EE-D989-455F-8DA5-CB9AB1AF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802F-96BF-4BB1-B1B1-9C799A3E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A1ED-85E5-4F48-9896-0D65F20F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1E35-3E8E-4DFB-BC47-D39FA5EC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E256-0E7A-491E-8A9F-7097B4BE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9E0B-8FD3-438A-AC96-DF0793A5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D290-65AB-4C0B-9FEF-C2B9D8B5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E688-695A-4E02-BC19-8337C456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D44-D2C0-47F4-8A1E-A2852D02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37E9-3FA3-47D8-88FA-E0B80EA4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C880-9553-461E-A66E-9061705F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EEAE-41A7-47C1-84DB-B35E9DEA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448D-845C-4CE2-A0B6-D837C8CF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B121-DD31-4CF1-B8EA-3EC0337A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DE5B-3A51-4B1F-BEEE-1E91DF1D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1D34-A8C6-4615-BE6B-D3C293F9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17C-2BA4-4F9E-BD1C-BC41785D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9F0-A638-4932-B898-E4F7BA83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A195-E182-42BC-BEA6-F9C5D98E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2D4-A21A-4C18-81D1-3672BED9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BE28-18C4-4C00-B37F-E0D1F89F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891C-1DD1-43F3-9C91-75B707CC40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F472-66B3-4B03-89D5-FCD8765FB4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US" sz="4600" spc="-1" strike="noStrike" u="sng">
                <a:solidFill>
                  <a:srgbClr val="ffffff"/>
                </a:solidFill>
                <a:uFillTx/>
                <a:latin typeface="Verdana"/>
              </a:rPr>
              <a:t>fable</a:t>
            </a:r>
            <a:r>
              <a:rPr b="0" lang="en-US" sz="4600" spc="-1" strike="noStrike">
                <a:solidFill>
                  <a:srgbClr val="ffffff"/>
                </a:solidFill>
                <a:latin typeface="Verdana"/>
              </a:rPr>
              <a:t> is…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structional tale about human emotions and human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Verdana"/>
              </a:rPr>
              <a:t>Fables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usually 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be written as either poetry or prose (sto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y a clear moral or message, usually stated at th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j0323091"/>
          <p:cNvPicPr/>
          <p:nvPr/>
        </p:nvPicPr>
        <p:blipFill>
          <a:blip r:embed="rId1"/>
          <a:stretch/>
        </p:blipFill>
        <p:spPr>
          <a:xfrm>
            <a:off x="4495680" y="1447920"/>
            <a:ext cx="3911760" cy="4003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Verdana"/>
              </a:rPr>
              <a:t>Fables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animal charac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stand for human "types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j0318942"/>
          <p:cNvPicPr/>
          <p:nvPr/>
        </p:nvPicPr>
        <p:blipFill>
          <a:blip r:embed="rId1"/>
          <a:stretch/>
        </p:blipFill>
        <p:spPr>
          <a:xfrm>
            <a:off x="6553080" y="3087720"/>
            <a:ext cx="1747800" cy="1879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an01883_"/>
          <p:cNvPicPr/>
          <p:nvPr/>
        </p:nvPicPr>
        <p:blipFill>
          <a:blip r:embed="rId2"/>
          <a:stretch/>
        </p:blipFill>
        <p:spPr>
          <a:xfrm>
            <a:off x="5562720" y="1676520"/>
            <a:ext cx="1523880" cy="140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j0417514"/>
          <p:cNvPicPr/>
          <p:nvPr/>
        </p:nvPicPr>
        <p:blipFill>
          <a:blip r:embed="rId3"/>
          <a:stretch/>
        </p:blipFill>
        <p:spPr>
          <a:xfrm>
            <a:off x="3581280" y="3581280"/>
            <a:ext cx="1711440" cy="1432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j0424138"/>
          <p:cNvPicPr/>
          <p:nvPr/>
        </p:nvPicPr>
        <p:blipFill>
          <a:blip r:embed="rId4"/>
          <a:stretch/>
        </p:blipFill>
        <p:spPr>
          <a:xfrm>
            <a:off x="380880" y="3962520"/>
            <a:ext cx="19242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Arial"/>
              </a:rPr>
              <a:t>For example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3882960"/>
            <a:ext cx="7925040" cy="21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e used to represent someone who is talented, but overconf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rto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e used to represent someone who is determ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j0318942"/>
          <p:cNvPicPr/>
          <p:nvPr/>
        </p:nvPicPr>
        <p:blipFill>
          <a:blip r:embed="rId1"/>
          <a:stretch/>
        </p:blipFill>
        <p:spPr>
          <a:xfrm>
            <a:off x="1066680" y="1066680"/>
            <a:ext cx="2460600" cy="2610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an01883_"/>
          <p:cNvPicPr/>
          <p:nvPr/>
        </p:nvPicPr>
        <p:blipFill>
          <a:blip r:embed="rId2"/>
          <a:stretch/>
        </p:blipFill>
        <p:spPr>
          <a:xfrm>
            <a:off x="5486400" y="1600200"/>
            <a:ext cx="227664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Arial"/>
              </a:rPr>
              <a:t>More examples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use may represe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the lion may represe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j0424138"/>
          <p:cNvPicPr/>
          <p:nvPr/>
        </p:nvPicPr>
        <p:blipFill>
          <a:blip r:embed="rId1"/>
          <a:stretch/>
        </p:blipFill>
        <p:spPr>
          <a:xfrm>
            <a:off x="1752480" y="2057400"/>
            <a:ext cx="1852560" cy="839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j0417514"/>
          <p:cNvPicPr/>
          <p:nvPr/>
        </p:nvPicPr>
        <p:blipFill>
          <a:blip r:embed="rId2"/>
          <a:stretch/>
        </p:blipFill>
        <p:spPr>
          <a:xfrm>
            <a:off x="1066680" y="3581280"/>
            <a:ext cx="320040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Verdana"/>
              </a:rPr>
              <a:t>The fable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one of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oldes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iterary forms - much, much older than the novel or the short st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283631"/>
          <p:cNvPicPr/>
          <p:nvPr/>
        </p:nvPicPr>
        <p:blipFill>
          <a:blip r:embed="rId1"/>
          <a:stretch/>
        </p:blipFill>
        <p:spPr>
          <a:xfrm>
            <a:off x="3581280" y="3276720"/>
            <a:ext cx="2524320" cy="312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Verdana"/>
              </a:rPr>
              <a:t>Animal Farm</a:t>
            </a:r>
            <a:r>
              <a:rPr b="1" lang="en-US" sz="4200" spc="-1" strike="noStrike">
                <a:solidFill>
                  <a:srgbClr val="ffffff"/>
                </a:solidFill>
                <a:latin typeface="Verdana"/>
              </a:rPr>
              <a:t> is a fable!!!!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Animal Farm Cover 1"/>
          <p:cNvPicPr/>
          <p:nvPr/>
        </p:nvPicPr>
        <p:blipFill>
          <a:blip r:embed="rId1"/>
          <a:stretch/>
        </p:blipFill>
        <p:spPr>
          <a:xfrm>
            <a:off x="609480" y="1523880"/>
            <a:ext cx="1914480" cy="2743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Animal Farm cover 2"/>
          <p:cNvPicPr/>
          <p:nvPr/>
        </p:nvPicPr>
        <p:blipFill>
          <a:blip r:embed="rId2"/>
          <a:stretch/>
        </p:blipFill>
        <p:spPr>
          <a:xfrm>
            <a:off x="4267080" y="1371600"/>
            <a:ext cx="1952640" cy="3276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Animal Farm cover 3"/>
          <p:cNvPicPr/>
          <p:nvPr/>
        </p:nvPicPr>
        <p:blipFill>
          <a:blip r:embed="rId3"/>
          <a:stretch/>
        </p:blipFill>
        <p:spPr>
          <a:xfrm>
            <a:off x="2362320" y="2895480"/>
            <a:ext cx="2190600" cy="3581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Animal Farm cover 4"/>
          <p:cNvPicPr/>
          <p:nvPr/>
        </p:nvPicPr>
        <p:blipFill>
          <a:blip r:embed="rId4"/>
          <a:stretch/>
        </p:blipFill>
        <p:spPr>
          <a:xfrm>
            <a:off x="5867280" y="2971800"/>
            <a:ext cx="2629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22:26:21Z</dcterms:created>
  <dc:creator>Emily</dc:creator>
  <dc:description/>
  <dc:language>en-US</dc:language>
  <cp:lastModifiedBy>Teacher</cp:lastModifiedBy>
  <dcterms:modified xsi:type="dcterms:W3CDTF">2012-01-04T14:07:48Z</dcterms:modified>
  <cp:revision>5</cp:revision>
  <dc:subject/>
  <dc:title>A fable is…</dc:title>
</cp:coreProperties>
</file>